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A96-9ADA-4FC9-8921-E5D3B3A6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2B1-656E-4BC4-ABB9-E7CD0C6E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F3A-FE4D-470D-A172-25031D70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43E-3341-4980-B9A7-59BD164D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3DB-6275-41A4-A2F2-11AAE19A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490-F621-4D2D-8497-DF87CDEA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F32-93D9-43B8-A3E3-3F5D97C4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00B-676F-4D56-81D3-4F53A3D9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DA2-62F7-446A-9FF6-718D14FB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004-EE32-43D6-954B-7E5E520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115-6F73-49DD-A1F8-2C6EE91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D26-CB24-403C-9096-7CB30C35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0F20-B0DA-4C38-A9C2-01A2F928BE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360" y="4000680"/>
            <a:ext cx="771516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000" spc="-1" strike="noStrike">
                <a:solidFill>
                  <a:srgbClr val="000000"/>
                </a:solidFill>
                <a:latin typeface="Castellar"/>
              </a:rPr>
              <a:t>CULTURAL GEOGRAP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611280" y="522936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deological subsyste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consist of the ideas, beliefs, and knowledge of a culture and of the ways in which they are expressed in speech or other forms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Mythologies, theologies, legend, literature, philosophy, folk, wisdom &amp; commonsense knowle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entifacts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ells us what we ought to believe, what we should value and how we ought to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integrat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he interlocking nature of all aspects of a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Integrat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means that any cultural object or act may have a number of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714320"/>
            <a:ext cx="8929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600" spc="-1" strike="noStrike">
                <a:solidFill>
                  <a:srgbClr val="000000"/>
                </a:solidFill>
                <a:latin typeface="comic"/>
              </a:rPr>
              <a:t>CULTURE CHAN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ulture change is induc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Inno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 changes to the culture that result from ideas created within the social group itself and adopted by th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ed in improvement in materia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of nonmaterial form of social structure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PH" sz="3600" spc="-1" strike="noStrike">
                <a:solidFill>
                  <a:srgbClr val="000000"/>
                </a:solidFill>
                <a:latin typeface="Arial"/>
              </a:rPr>
              <a:t>All innovations has a radiating impact upon the web of culture; the more basic the innovation, the more pervasive its consequ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600" spc="-1" strike="noStrike">
                <a:solidFill>
                  <a:srgbClr val="000000"/>
                </a:solidFill>
                <a:latin typeface="Arial"/>
              </a:rPr>
              <a:t>Agricultural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Hearth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use to describe those restricted areas of innovation from which key culture elements diffused to exert an influence on surrounding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comic"/>
              </a:rPr>
              <a:t>Diffus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wo process of diffusion is involve in dif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People move to a new area and take their culture with them</a:t>
            </a:r>
            <a:r>
              <a:rPr b="1" lang="en-P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The spread of information about an innovation throughout a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Arial"/>
              </a:rPr>
              <a:t>Syncretism-</a:t>
            </a:r>
            <a:r>
              <a:rPr b="0" lang="en-PH" sz="2800" spc="-1" strike="noStrike">
                <a:solidFill>
                  <a:srgbClr val="000000"/>
                </a:solidFill>
                <a:latin typeface="Arial"/>
              </a:rPr>
              <a:t> the process of the fusion of old and new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comic"/>
              </a:rPr>
              <a:t>ACCULTU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42884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Process by which one culture group undergoes a major modification by adopting many of the characteristics of another, usually dominant, cultur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5400" spc="-1" strike="noStrike">
                <a:solidFill>
                  <a:srgbClr val="000000"/>
                </a:solidFill>
                <a:latin typeface="Baskerville Old Face"/>
              </a:rPr>
              <a:t>CULTURAL DIVER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000" spc="-1" strike="noStrike">
                <a:solidFill>
                  <a:srgbClr val="000000"/>
                </a:solidFill>
                <a:latin typeface="Baskerville Old Face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se are the following objectives of this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o have an in depth understanding about what cultur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o differentiate the cultures of one country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o know how culture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o show the impact of culture to the lives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7200" spc="-1" strike="noStrike">
                <a:solidFill>
                  <a:srgbClr val="000000"/>
                </a:solidFill>
                <a:latin typeface="Baskerville Old Face"/>
              </a:rPr>
              <a:t>LANGUA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6600" spc="-1" strike="noStrike">
                <a:solidFill>
                  <a:srgbClr val="000000"/>
                </a:solidFill>
                <a:latin typeface="comic"/>
              </a:rPr>
              <a:t>LANGU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defined simply as an organized system of speech by which people communicate with each other with mutual compreh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most important medium by which culture is trans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can be both a cause and a symbol of cultural different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anguage 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PH" sz="3200" spc="-1" strike="noStrike">
                <a:solidFill>
                  <a:srgbClr val="000000"/>
                </a:solidFill>
                <a:latin typeface="Arial"/>
              </a:rPr>
              <a:t>linguistic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famil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 group of languages thought to have a common origin in a single, earlier to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ubfamilie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r bra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ocial dialect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denotes social class and educational levels, with speakers of higher socioeconomic status or educational achievement most likely to follow the norms of their standard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Vernacular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nonstandard language or dialect adopted by the soci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inguistic Geograph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study of character and spatial pattern of geographic, or regional dial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idgin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s an amalgam of languages, usually a simplified form of one of them, with borrowings from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- Characterized by a highly simplified grammatical structure and a sharply reduced vocabulary adequate to express basic ideas but not complex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reole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nvariably acquire a more complex grammatical structure and enhanced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Lingua franca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established language used habitually for communication by people whose native tongues are mutually incomprehen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PH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8000" spc="-1" strike="noStrike">
                <a:solidFill>
                  <a:srgbClr val="000000"/>
                </a:solidFill>
                <a:latin typeface="Baskerville Old Face"/>
              </a:rPr>
              <a:t>RELIG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omic"/>
              </a:rPr>
              <a:t>CLASSIFICATION AND DISTRIBUTION OF RELI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Monothe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lief in a single de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olythe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lief in many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UNIVERSALIZING RELI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Arial"/>
              </a:rPr>
              <a:t>Culture – </a:t>
            </a: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is as much a part of the regional differentiation of the earth  as are topography, climate, and other aspects of physical environ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Universalizing Religions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is open to anyone who chooses to make a symbolic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thnic Religion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have strong territorial and cultural group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ne becomes a member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irth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by adoption of a complex lifestyle and cultural identity, not by a simple declaration of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Tribal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(or traditional) </a:t>
            </a: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religions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special forms of ethnic religions distinguished by their small size, heir unique identity with localized culture groups not yet fully absorbed into modern society and their close ties to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Anim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life exist in all objects, from rocks and trees and lakes and mountains or that such objects are the abode of the  dead, of spirits, and of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haman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form of tribal religion that involves community acceptance of a shaman who, through special powers, can intercede with and interpret the spirit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ecularis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an indifference to or rejection of religion and religious belief, is an increasing part of many modern societies, particularly of the industrialized countries and those now or recently under communist reg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Aparajita"/>
                <a:ea typeface="Aparajita"/>
              </a:rPr>
              <a:t>A lesson learned is a skill that can be taught, a skill that can be taught is another opportunity for others to learn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stellar"/>
              </a:rPr>
              <a:t>COMPONENT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trait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re units of learned behaviour ranging from the language spoken to the tools used or to the games played. (object, technique, attitu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complex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individual culture traits that are functionally inter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syste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a larger spatial reality and gener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region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a portion of the earth’s surface occupied by people sharing recognizable and distinctive cultur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e real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term recognizes s large segment of the earth’s surface having fundamental uniformity in its cultural characteristics and showing a significant difference in them from adjacent rea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stellar"/>
              </a:rPr>
              <a:t>INTERACTION OF PEOPLE AN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Cultural ecology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the study of the relationship between a culture group and the natural environment it occup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download (1).jpg"/>
          <p:cNvPicPr/>
          <p:nvPr/>
        </p:nvPicPr>
        <p:blipFill>
          <a:blip r:embed="rId1"/>
          <a:stretch/>
        </p:blipFill>
        <p:spPr>
          <a:xfrm>
            <a:off x="1714680" y="3143160"/>
            <a:ext cx="3929040" cy="314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600" spc="-1" strike="noStrike">
                <a:solidFill>
                  <a:srgbClr val="000000"/>
                </a:solidFill>
                <a:latin typeface="Castellar"/>
              </a:rPr>
              <a:t>ENVIRONMENTS AS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Environmental determinis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belief that the physical environment by itself shapes humans, the actions, and their thou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Possibilism-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 people are the dynamic forces of cultural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stellar"/>
              </a:rPr>
              <a:t>SUBSYSTEM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Technological subsystems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omposed of the material objects and the techniques of their use by means of which people are abl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Arial"/>
              </a:rPr>
              <a:t>Sociological subsystem-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the sum of those expected and accepted patterns of interpersonal relations that find their outlet in economic, political, military, religious, kinship, and other assoc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irish</cp:lastModifiedBy>
  <dcterms:modified xsi:type="dcterms:W3CDTF">2012-10-01T23:42:13Z</dcterms:modified>
  <cp:revision>776</cp:revision>
  <dc:subject/>
  <dc:title>Diapositiva 1</dc:title>
</cp:coreProperties>
</file>